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1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849A-2634-4FA6-86F4-27EA624C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7460-F423-46FC-9344-B2724B73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7D75-D623-4E30-84E4-BF3270B5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00E0-FC92-4991-9E43-8E1A5B15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B45F-ABF1-4C36-B66E-7425CC4A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E62-2E0D-4ECA-AA44-CDD6E718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04F0-DEA8-4525-AFB1-D8F794AF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E147-23CF-4BEE-A325-EF2366A5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B8C5-3CF6-4E78-8797-2C7407D2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EFF5-9C56-4712-86AD-294A97DF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EE92-D0FD-4CD3-9BF2-2395B7B4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C8D8-3FE2-4336-AF28-28193B91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9FF6-86B1-4797-B1A9-94CADF6CB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457200" cy="454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2280" y="249120"/>
            <a:ext cx="152424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embrandt0.uva.netherlight.nl/rtpl/das3/table/net_data.html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s.vu.nl/das3/sites-vu.shtml" TargetMode="External"/><Relationship Id="rId2" Type="http://schemas.openxmlformats.org/officeDocument/2006/relationships/hyperlink" Target="http://www.starplane.org/" TargetMode="External"/><Relationship Id="rId3" Type="http://schemas.openxmlformats.org/officeDocument/2006/relationships/hyperlink" Target="http://www.science.uva.nl/research/sne/ndl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CARIe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using StarPlane and DAS-3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ola Gros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mien March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es de La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NE group - U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tarPlane: WS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5334120" cy="4083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638680" y="2209680"/>
            <a:ext cx="3200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SS will allow us to redirect a selected input color to the output fi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allows us to flexibly reconfigure the network according to the application deman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al of StarPlane is sub-second switching, and topology reconfigu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943600" y="2814480"/>
            <a:ext cx="3003480" cy="3886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00400" y="2738520"/>
            <a:ext cx="3063960" cy="3962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3080" y="2509920"/>
            <a:ext cx="3355920" cy="4343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24400" y="19764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pology 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2357280"/>
            <a:ext cx="1295640" cy="60984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816" y="0"/>
                </a:moveTo>
                <a:cubicBezTo>
                  <a:pt x="596" y="16"/>
                  <a:pt x="376" y="32"/>
                  <a:pt x="240" y="96"/>
                </a:cubicBezTo>
                <a:cubicBezTo>
                  <a:pt x="104" y="160"/>
                  <a:pt x="40" y="336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2192400"/>
            <a:ext cx="1524240" cy="698400"/>
          </a:xfrm>
          <a:custGeom>
            <a:avLst/>
            <a:gdLst/>
            <a:ahLst/>
            <a:rect l="l" t="t" r="r" b="b"/>
            <a:pathLst>
              <a:path w="960" h="440">
                <a:moveTo>
                  <a:pt x="0" y="104"/>
                </a:moveTo>
                <a:cubicBezTo>
                  <a:pt x="304" y="52"/>
                  <a:pt x="608" y="0"/>
                  <a:pt x="768" y="56"/>
                </a:cubicBezTo>
                <a:cubicBezTo>
                  <a:pt x="928" y="112"/>
                  <a:pt x="928" y="376"/>
                  <a:pt x="960" y="4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2433600"/>
            <a:ext cx="1440" cy="533520"/>
          </a:xfrm>
          <a:custGeom>
            <a:avLst/>
            <a:gdLst/>
            <a:ahLst/>
            <a:rect l="l" t="t" r="r" b="b"/>
            <a:pathLst>
              <a:path w="1" h="336">
                <a:moveTo>
                  <a:pt x="0" y="0"/>
                </a:moveTo>
                <a:cubicBezTo>
                  <a:pt x="0" y="140"/>
                  <a:pt x="0" y="280"/>
                  <a:pt x="0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tarPlane: topology changes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tarPlane and NDL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le on topologies. SNE group is working on NDL - Network Description Languag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DL is an  RDF data model, based on idea of Semantic Web, for network topology descript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StarPlane we are researching use of NDL for topology exchange and topology requests from cli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27320" y="3559320"/>
            <a:ext cx="46893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tarPlane: status (1)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st light between sites over the CPL infrastruc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ing of connections being worked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rembrandt0.uva.netherlight.nl/rtpl/das3/table/net_data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no dynamic control over lightpaths y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52280" y="3200400"/>
            <a:ext cx="883944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tarPlane: status(2)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on between the management plane and DRAC over a testb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43200" y="2570040"/>
            <a:ext cx="551340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erenc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S-3 websi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cs.vu.nl/das3/sites-vu.s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Plane websi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www.starplane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DL webs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www.science.uva.nl/research/sne/n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w for the discussion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For discussion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of DAS-3 and StarPlane for SCARIe software correl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es the DAS-3 supercomputer provide a suitable environment for software correlatio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Computing power and number of nodes is adequate?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rid software suited to requirement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needs to be on the DAS-3 clus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ow do we move the data in real-time to the cluster? Or we just focus on ust offline correlation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Do we have a lightpath connection to JIVE? From where to where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pology reque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What are the optimal photonic topologies for software correlation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oal of my present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give an overview of the DAS-3 and StarPlane architecture, their current status and outline which use SCARIe research can do on these infrastructu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equently the outline of this talk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of DAS-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of StarPl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tatus of DAS-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tatus of StarPl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ARIe use of DAS-3 and StarPl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ome basics…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S-3 is the ASCI distributed supercomputer, or better sai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tribut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I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ercompu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S-3 is the third generation of 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Plane is an NWO-funded pro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Plane goal is to develop the middleware for application controlled photonic network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Plane performs its research on a portion of SURFnet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DAS-3: goals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oal of DAS is to provide a common computational infrastructure for researchers within ASCI, who work on various aspects of parallel and distributed systems, including communication substrates, programming environments, and applicat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Quoting Henri Bal - VU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llel processing on multiple clus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udy non-trivially parallel appli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loit hierarchical structure for locality optimiz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tency hiding, message combining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410080" cy="3776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DAS-3: cluster architecture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ve clusters in four locations: UvA, VU, Leiden and Delf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clusters at the Uv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y componen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head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] cluster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/university interconn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interconn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tonic interconn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DAS-3: clusters setup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1981080"/>
          <a:ext cx="7772400" cy="4375440"/>
        </p:xfrm>
        <a:graphic>
          <a:graphicData uri="http://schemas.openxmlformats.org/drawingml/2006/table">
            <a:tbl>
              <a:tblPr/>
              <a:tblGrid>
                <a:gridCol w="1360440"/>
                <a:gridCol w="1100160"/>
                <a:gridCol w="1101600"/>
                <a:gridCol w="1101960"/>
                <a:gridCol w="1165320"/>
                <a:gridCol w="1164960"/>
                <a:gridCol w="7779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vA-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T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T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T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T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T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T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CP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4GHz 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4GHz 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2GHz 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2GHz 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4GHz 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G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Myri 10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10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50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T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CP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6G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4G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2GHz 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4G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4GHz 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9T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84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Myri 10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yri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10G po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 (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10GE po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t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1GE po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 (1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6 (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(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 (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10GE po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DAS-3:  status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 of toda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sit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rational with cluster and head nodes and bridge nodes install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Bridge nodes are used to connect to the photonic network, while the performance of the Myrinet cards is under test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 accounts availab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obs can run on individual clusters not between clus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id softwar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GE is the preferred schedul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OBUS and KOALA are installed but not operation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PICH-G2 is not install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yrine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cards installed but not operation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s of Myrinet-Ethernet bridg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DAS-3: photonic network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888080" y="3594240"/>
            <a:ext cx="4865400" cy="3511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1598760"/>
            <a:ext cx="4648320" cy="4002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1752480"/>
            <a:ext cx="3200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LAN connection to the University network, via Ethernet switch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WAN/StarPlane connection to CPL, via Ethernet “bridging” card in a Myrinet swit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49040" y="5315040"/>
            <a:ext cx="5549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nection from each site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OADM (fixed) equipment -Optical Add Drop 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WSS - Wavelength Selectable Switches- in Amsterd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tarPlane: goals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Plane is a NWO funded project with major contributions from SURFnet and NORTEL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Plane will use the physical infrastructure provided by SURFnet6 and the distributed supercomputer DAS-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vision is to allow part of the photonic network infrastructure of SURFnet6 to be manipulated by Grid applications to optimize the performance of specific e-Science applicat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novelty: to give flexibility directly to the applications by allowing them to choose the logical topology in</a:t>
            </a:r>
            <a:r>
              <a:rPr b="0" lang="en-US" sz="1800" spc="-1" strike="noStrike">
                <a:solidFill>
                  <a:srgbClr val="66ff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l time, ultimately with subsecond lambda switching tim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07:38:51Z</dcterms:created>
  <dc:creator>Paola  Grosso</dc:creator>
  <dc:description/>
  <dc:language>en-US</dc:language>
  <cp:lastModifiedBy>Paola Grosso</cp:lastModifiedBy>
  <dcterms:modified xsi:type="dcterms:W3CDTF">2007-05-14T13:25:20Z</dcterms:modified>
  <cp:revision>18</cp:revision>
  <dc:subject/>
  <dc:title>SCARIe: using StarPlane and DAS-3</dc:title>
</cp:coreProperties>
</file>